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583-04D1-49C6-AC61-A8D2ACCE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239-8624-413C-9808-7A769D1A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720-D57B-49CD-B969-4FF5E4D9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699-D554-4E87-A439-E739AC16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391-1420-4ABD-97B5-B125376D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E91-7961-4BB0-82F6-32F5C1B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4D1-8B48-4B11-B8A7-14E81015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E9F-4137-4821-A71F-A5E89B57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8AD-862C-4465-B563-553B0EE3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57C-0124-41E9-A127-E6DB77FF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051-7174-40CC-9740-9D96F8B8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8DF-EA2C-4003-AE55-50F5DB7A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65B6-CDF1-4FD6-92A8-00FB0B47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njit.edu/~kevin/rgb.tx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ss 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3505320" cy="2225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0164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1730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ss 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76520"/>
            <a:ext cx="8076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the glass shards and determine the color of the pieces, carefully distinguish if there is only 1 sample of glass or more than 1.  Note in your journal the color name as listed at  RGB color mapping site: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://web.njit.edu/~kevin/rgb.txt.html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color to broken glass at the crime scene to determine of there is a match.  Be sure to not in your journal positive or negative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several types of Glas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ight be found in a Crime Sce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xiglas  (Actually plas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andescent l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rescent light bul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ed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exi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388620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(b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rittle, does not sh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many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535480" cy="3352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38680" y="1219320"/>
            <a:ext cx="350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pictur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ment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ul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bby and toy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86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tur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3526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highly Col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eflective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tle, sh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1120" y="16761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window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tle, shatter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coated 1 sid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s along sharp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reflective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098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Bul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andescent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or opaque color in the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520" y="1752480"/>
            <a:ext cx="3352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escent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Coated on inside not in the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ed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fracture or form sharp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tters into small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657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the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447920"/>
            <a:ext cx="685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examinations made with glas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Densi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Test density, the usual method of determining mass, then volume by water displacement is used to calculate density D= m/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Col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amples are visually examined and their color is compared to samples found at the crime sce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ure shap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spect pieces are examined for their shape, to determine if their fracture lines match fracture lines on Crime scene specim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886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ss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Measur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tain a sample of several pieces (shards) that will all fit into a 25 ml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uated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a piece of tare paper, measure mass on triple beam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down mass of g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Measur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 out exactly 30 ml water (watch exactly where meniscus 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lt cylinder to the side and gently slide in all the glass pie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 the amount of volume differenc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down volume of g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: Density = ma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2 all measurements more times using different pieces of glass and average the dens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5:12:13Z</dcterms:created>
  <dc:creator>Greg Neff</dc:creator>
  <dc:description/>
  <dc:language>en-US</dc:language>
  <cp:lastModifiedBy>Greg Neff</cp:lastModifiedBy>
  <dcterms:modified xsi:type="dcterms:W3CDTF">2008-03-02T15:45:51Z</dcterms:modified>
  <cp:revision>6</cp:revision>
  <dc:subject/>
  <dc:title>Glass Investigation</dc:title>
</cp:coreProperties>
</file>